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874-1644-4A62-A756-31DB00F6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9CE-10CF-4CFD-89BA-E24EE1A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C6C-0388-4345-8198-A48F648B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5FC-A1C3-431C-8366-9E4620CB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475-56F7-44CB-AC13-6A8EA65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31A-1D6F-4656-9170-A8B6244E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A12-2C4B-44A8-A5B9-ED6384C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1DF-3D8C-451E-8057-9724EFDE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8F4-9991-47B3-9785-1B00ABE9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AB3-8333-4A21-902B-AAAB3F3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E03-911B-411B-8034-47F91DC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F30-4511-410F-B8C4-E03DCDCB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0C9-A655-42C7-922A-8E0D56F5F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ga.gov/exhibitions/2005/toulouse/056-206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aris is different by night"/>
          <p:cNvPicPr/>
          <p:nvPr/>
        </p:nvPicPr>
        <p:blipFill>
          <a:blip r:embed="rId1"/>
          <a:stretch/>
        </p:blipFill>
        <p:spPr>
          <a:xfrm>
            <a:off x="1600200" y="0"/>
            <a:ext cx="50418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609480" y="3581280"/>
            <a:ext cx="7848720" cy="18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imSun"/>
              </a:rPr>
              <a:t>Les Cabar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imSun"/>
              <a:ea typeface="SimSun"/>
            </a:endParaRPr>
          </a:p>
        </p:txBody>
      </p:sp>
    </p:spTree>
  </p:cSld>
  <p:transition spd="med" advTm="1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image: Jules Chéret, Bal du Moulin Rouge, 18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10160" y="533520"/>
            <a:ext cx="4533840" cy="632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04920" y="533520"/>
            <a:ext cx="40384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ity posters were an important innovation of the Montmartre artists.  This poster depicted a voluptuous woman who flirted with viewers and welcomed into the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Moulin Roug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344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943600" y="685800"/>
            <a:ext cx="2362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ulin Rouge opened in 1889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380880"/>
            <a:ext cx="800100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a Serif ITC TT-MedIta"/>
              </a:rPr>
              <a:t>La “Belle Epoque” (Paris between 1890 and WW I ) created the modern idea of entertainm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a Serif ITC TT-MedIta"/>
              </a:rPr>
              <a:t>Those were the years of films, Art Nouveau, Impressionism, Debussy, and the Tour Eiffel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a Serif ITC TT-MedIta"/>
              </a:rPr>
              <a:t>The cabaret was were people celebrated the “belle epoqu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a Serif ITC TT-MedIta"/>
              </a:rPr>
              <a:t>It was ended by World War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37080" y="0"/>
            <a:ext cx="460692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0" y="174600"/>
            <a:ext cx="43434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rtiste Brua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was one of the first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“chansonniers”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e used folk music and a plain tone that shared stories especially for the lower clas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17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943600" y="9907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0"/>
            <a:ext cx="2971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chanson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s born from operettas.  Music evolved to be more lively, hummable, and rhythmic, and contain refrains that people coul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61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257800" y="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Chat No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s  the fir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are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Paris which opened in 18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514600"/>
            <a:ext cx="38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became a gathering spot for avant-garde artists, poets, musicians, and wri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87880" y="0"/>
            <a:ext cx="49561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1676520"/>
            <a:ext cx="38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hat Noir represented the mysterious, independent, sensual, and nocturnal culture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mart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23775" b="44990"/>
          <a:stretch/>
        </p:blipFill>
        <p:spPr>
          <a:xfrm>
            <a:off x="2514600" y="3227400"/>
            <a:ext cx="5032440" cy="363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wner of the Chat Noir had inscribed on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tombstone the following qu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932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d created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apoleon the Legion of Honor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, Montmart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6067" t="1095" r="3028" b="7107"/>
          <a:stretch/>
        </p:blipFill>
        <p:spPr>
          <a:xfrm>
            <a:off x="4989600" y="152280"/>
            <a:ext cx="4154400" cy="6705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0" y="0"/>
            <a:ext cx="46483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La Gou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( the greedy o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was a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dancer who turne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Stone Sans ITC TT-SemiIta"/>
              </a:rPr>
              <a:t>cancan</a:t>
            </a: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 into a risqu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dance with high k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tone Sans ITC TT-SemiIta"/>
              </a:rPr>
              <a:t>and loud shri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s is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oulouse Lautrec’s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most famous po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51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1024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 CAN C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u peux le fai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12:35Z</dcterms:created>
  <dc:creator>SDW</dc:creator>
  <dc:description/>
  <dc:language>en-US</dc:language>
  <cp:lastModifiedBy>SDW</cp:lastModifiedBy>
  <dcterms:modified xsi:type="dcterms:W3CDTF">2010-11-03T21:43:29Z</dcterms:modified>
  <cp:revision>4</cp:revision>
  <dc:subject/>
  <dc:title>Slide 1</dc:title>
</cp:coreProperties>
</file>